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D5E7-FB44-4A10-A51B-7CBF2DA8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DE5-374C-4F6F-A5A5-7D4F0446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3CAFD-136D-4A63-8CAC-7D05A551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21DAB-E67D-45D8-93D2-D27B577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4B33B-06D0-430D-8FEC-EF1E4856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ACA45-ACA1-4C74-A8BC-DC6B8F46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F5301-81F6-45B0-B732-7CEC06CC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EDAA5-6C50-45F1-8EDC-9AD199EF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7CE29-CE33-4794-9860-646278BD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F7358-C465-40C8-B070-8CBF682E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1B8D0-6E19-417F-8775-4DC6941C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B78E5-A7F5-453F-B788-109827DF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9CE-DB71-4204-8106-FCBE15A7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0F5B3-D412-45D8-9ED1-C64EC14D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C2FD6-65C8-482F-B4FF-84254E9F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68489-5D93-4995-AFC7-DB1EA3B0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AFE12D-F85C-454B-A967-9575220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37FEA-DAB4-4395-8298-DCFA9D7F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F76C9-2FFC-4D27-9B3B-2C5915C9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AA46E2-2637-4DD8-AEB9-B3F1459E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14FBA-A029-4618-A1E8-5C0566B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FD246-0A29-41C6-9AB9-0068E884E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BFAD6-740A-4569-BA4A-C9D665E5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891-1A31-483B-BFC9-9236182E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14E1E-D214-432F-ADBE-AF690AFA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7C1FBA-B0BE-44CC-B0E4-F854647C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A1295C-8656-4E68-B38B-E05F41CD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0F82F-8919-4978-8233-12184149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512A9-22D0-4B94-BDA1-A850A240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541C1-CB04-4A1B-81F0-88B38F77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3941D-FDBD-4875-AFA4-B4146294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73D5C-4406-4162-BB81-5A43F9D3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83F7E-AB8F-4716-9F9A-4B4399B8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0C18F-5825-4FF2-9329-88E4CB46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8779-A780-4326-9B36-F8AC92C1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6AA81-41D0-4B2C-9C44-DB0EE033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C7B9E-DC33-40D5-B967-8C68F90BD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A8C63-76FE-449C-8FB7-37312E41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ADBF3-B285-4DCB-9BF7-4A07FDBA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B1C1EB-1660-403E-9AC3-AB702249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9ABB6-0F19-4E87-84CE-76E8DD2D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F10C4-9641-4D38-A463-086E1CCF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F107A-D888-4CDD-8E79-596FC83F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B3F4B-8DB9-40E0-B096-0AF2FA4A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8265D-1641-4F9B-A3C5-994CFD0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E75E-0517-4DE2-9683-87825B0B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E7AB53-F008-4DC5-9906-69DF4596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0AB36-B98E-44B0-A048-9556CD33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86742-925C-4CED-80E1-4DF7FA9E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D379E-598D-477B-A9EB-9D128CC0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67C01-DCC0-49E5-AE1F-9C73A849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92F66-3F4A-4A26-8DF6-EF0EAC6A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E44E7-787D-43BC-BA55-1F5FE521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8708B-A16D-4B8B-B64B-D416B733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C3A1F-9A77-407A-A1EC-9C484BA3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941D8-1374-4D87-94DC-2E5F1F1F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6026-3496-4229-BB75-6ED90C54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2CBFE-9405-4F4B-8FF4-7411E35E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86751-4C7E-4B7C-AA9E-9C23308C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1CC68-AAB0-49E0-AFF0-DEA5AF02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84DAD-B21B-4766-B112-8234C84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C81925-0A76-473F-A05A-1445233B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385BF3-A878-42E9-B609-46F0F6BE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17433-E0BD-4CB9-9B4A-92DEFC82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A6DF5E-1706-4FE6-9FBF-F1209402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1DEC8-D2E9-4380-BCDE-FA4708DD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CDC354-8DC5-4789-BB56-BD85E725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1EFF-49DF-4550-B5B5-89FE15C2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A6733-702D-4AFC-B7CE-859C4E2E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83D59-3B2A-46A1-81CC-10DD9F34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FFA5F-4691-442A-B8F2-22ADE294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9E198-AB29-40E0-87C9-DDF8B700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717941-32C6-44BE-977E-3359E8AC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6712F9-2FF7-481F-8604-0C068CC7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FB15E-A38A-4EC3-A905-398FBD80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03B1F-8D1A-4D30-BBC3-EA3F518C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50957-DB99-49E6-9BF4-26318036D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79B6D5-500B-4121-B8F7-A3A9F0C8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928B-FAC0-4495-9603-3F891546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FF252-51BE-4D52-ADB1-E94CFA03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9EE28-9FB6-4D7F-A01C-7A4064CB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77412-57CA-4999-B46F-D48920C2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3B2B4A-17B8-4BD2-AF5E-B40BDCA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4AFB3-5AFD-4542-B880-07D02736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F85436-55D3-4F6C-9EE4-4A52C032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B92A7-5D15-480F-ACDE-677A1BBC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CB13F6-7F13-4287-A08F-E5CA27CC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35E79-9EC9-46DC-AAE0-74725548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9E6B3A-5CB1-4E99-AE19-49A894A4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8790-8772-4533-BB7F-5DB7D8187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10B77-416B-4418-8B0F-425513F8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C4FC7-7947-4F7B-805C-3C5EBFC5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2879E-9CA5-4A06-B8A9-F7DFE1D8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8192C6-2C99-4392-A4CE-20CF8D48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460CD-902B-4CF2-AA5B-0522693C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869C4A-08C3-4531-9C38-50006BD3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886CA-91FF-4C59-AD57-906F0F12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8B703F-44F9-4CE8-8A1A-13235188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BEBA51-DB0C-4120-B76B-C8F12CC1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A61D3F-1E3B-4D3B-9237-CA60C1F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4583-50D9-4DF5-9FCA-4D6C9E4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CC984-3068-4260-8BEA-B194039A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38BEC4-1802-4566-BA4E-5E442078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C15AB-4B13-469A-A557-6BA495DA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515E1-AF21-4D7F-BC6C-222EB4CF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DE273-0F0E-4E21-9FFE-C6ACD1AE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000612-71A8-4F0C-8ECF-FE1B2858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C1D0D8-0506-4815-8E15-B282A0F6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8935FE-33F1-4CD5-9AE9-26BB4B43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A6AF8B-8399-4E4C-83E9-A28C4B4A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19D8D-F0A2-4CB1-B41C-E1A6C22C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EE6-21DD-4E4D-82D3-B626D92C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E2E0-EFA1-4A0B-9620-A6C61C10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E4A97-6EE2-4D32-ABCF-2FADD01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65B46-B21F-4783-8BBA-E8D05B52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49CA6-81F0-43F8-B19C-B6A24CD4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107A5A-3944-4A09-8866-F7F2DE56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A64333-6967-490F-BDD9-08B2B3E7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2A22D-17D0-4A9D-8BA2-CA78147B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252071-BB70-4589-8490-AB49EFFF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39F101-5417-4A76-863B-F8FEA90B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36C63-05B6-4B6B-A034-E734B8BB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89DEA1-310D-4D66-9047-3AFEB7D0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AB99-841B-4738-A77C-0A9F561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66153-484B-4D48-9D5F-CF90CE31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B9024F-A439-46C7-8D0A-ADA88CA6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212B9-7521-46FC-9BB6-C8AE8418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D59B62-DD4B-425B-9DEF-9D8C4696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B95757-8A82-4B6D-8ACC-BAF05A41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86F77-1D01-40C0-AD65-01B00D38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AF7473-0C5B-488F-8BD7-068C0216D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617DCB-BE06-4824-A641-ABA908C27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C73C21-3D25-44B6-929F-0D4E6D67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0E914-E6A3-49D5-BDBF-3215DDCD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C503-B344-4CDF-BED9-B3C4DB8C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221599-0C26-468C-B8CB-147D302D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E0285-7793-4F47-B3E9-24DEA9B9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C920CE-0C7F-4C05-A3B3-48D21FD4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C7F6C4-E25B-4630-9395-9456F43B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F30D89-742E-4E3C-A79C-BAF53040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E7B9F-6658-4E70-86AC-CFB468E5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6E9CB1-EC95-4B27-B00E-3625B0A7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6901D-BBE1-4FE2-8A05-016ACA7B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BED9A6-FCE8-43E8-9056-771EE68A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6120B8-8717-4012-A348-45CB9E55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89C2-0EB4-436B-8095-3D100F54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D5E613-478A-44DE-8A6E-9CFD4A77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C4534-273F-4E31-BD9F-3A00C19C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17FB52-2BB3-4E09-8D9C-E0BBF920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9B45DA-0191-404B-89BC-ECC6972C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79949D-99AC-4DC6-85CE-0ABBF94D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9A6583-4F27-448F-B8D9-617DFE9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14DF41-9CBA-4B5E-8A05-884D67E0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42E062-2D86-4B28-8EED-2A1C7DEB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F5225C-A32B-4596-8A9F-BAC7A4A2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717029-C764-48B2-9CCD-451B2C83B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A0CF-C302-490C-AFFB-CA72409C9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23ABD7-234C-4532-BF7D-E566BD43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4F595-2DDB-432C-AB5D-DB3920D14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AEE7EF-A560-425C-916C-CDFE4AF0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6D1879-8CB2-4E17-8AA3-284A7BB7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473B0-6A01-49E6-8EEE-BB4ACC9A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3C4F17-60D0-4E91-B0F3-1FA1B26C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9C557-0858-4D28-9190-CD753CD6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A622F7-C6EA-48CC-B9D2-65AD10C5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712D32-9B1F-4237-BB91-22BC0D0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E61EC4-E4C4-4B85-B773-AD6B09D2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518E-F59B-4DDB-992B-10A0F7A2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CCBDB2-97D6-4DB1-92CF-7900BB85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4A3312-E9B3-40B3-AE64-85CE438E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0FEC7B-70B0-48AF-84BD-FF410C1B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E88D4A-C9E8-4746-B7BE-53A9DB59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637D3-1408-4700-9D34-2650491F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DFB164-2F91-4AE3-B4EF-043EC05A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B43393-242F-4D54-8084-EA5F0326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917FEA-CB80-4538-B2C8-A80255DA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D4E81D-F93B-4B50-BEBC-9342B2AC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537E3D-79C9-4166-9E4D-63EB2AC4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C5BE-9EAD-4EC8-A636-38E7FCFC4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1F98C9-1738-4C68-9387-2204C7F9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634789-9BD5-428A-B7A1-83DA7833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A4C273-DFB7-4AEC-8BD9-FB3D443F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26339D-EA40-49EA-B758-AEF10697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8DB59-E67A-44F7-AA0F-E612F22B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6793DF-7801-4C98-927E-ADBF08B6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C99A86-1C05-4E79-823E-91C029EE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391A80-3930-4BA0-8A54-29B57E06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2378C5-B608-483A-A657-D0750286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202B3E-4F5A-4298-8FDE-C2337368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EC7F-1A48-417D-9EA7-C03A679B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21547A-48F8-494F-9799-A9584DAC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60462E-3101-4878-A3F1-88615AE5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58F518-3C78-428D-B502-4408A5D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9DC1BD-1BF8-47C3-9623-010C51F0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67D846-71A5-4BF2-83A9-49F711B9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E52EEA-F516-4642-8472-C1BE785B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FACAFF-5084-4F20-A220-B6B83FBF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2A239C-8A67-4411-8986-51FA5820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F47D85-C651-4F80-88EC-EFAA2715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D47B73-BD98-4983-AAD6-BFA7692E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01518-5DE9-48CC-8792-AAD078E6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9A76DD-2B94-44BC-8DA6-BE578859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2E8AEA-75D4-4672-9D33-C344D697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27FC43-59B0-4868-9A36-8BA4A91D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D7E698-7F0C-4580-9F21-726A01EA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B159E6-655C-4506-BA46-4506416A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A4CF49-A676-4717-B909-ABC78615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4550C8-98C0-4BC1-B9CF-D61336ED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C50BBB-A777-4882-827D-F3B40463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994112-9372-4D8B-8A4A-358D5FFE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5F9FA06-F11B-4B03-BA82-ECA0CF66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2BFA-9CFF-459E-94BE-A5404401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EA0E42-5FAF-46A5-9EB0-A88BEF2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05EB9B-1DDC-41F6-901E-D4373678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112B2E6-3BC4-448B-A183-CDDBDA4B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907409-80ED-45E2-AD01-0BD6A193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FDEE8A-BAF1-4EFA-B21E-8E09CFB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67F99A-376F-4CAD-9961-FC50C807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1568FE-A86D-40D1-8A94-A18A0F7E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BD9268-35E0-49B1-9650-A952B30D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457B86-37F5-4E8B-90B4-2AF9C009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CC55FE-36D9-4E19-92BC-744D53C88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130-A6A9-4658-945E-FB41C720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5879-BB39-48A3-8CFA-98E3B797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0EAF06-70C0-4F53-A151-B8F3B2E2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15978D5-946D-47EE-BE37-C06702AD6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4173E4-415D-40A3-B743-31815B21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D0E6F2-A9C4-45E9-8EC9-8BC37DF4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6A1FBC-DDF2-4562-8BA3-CF3E8387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035EA2-24DC-4A84-A2AA-23B3E45B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9C6DF5-1ABA-402C-AED9-90F590DC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939BA7-6F8B-479F-8063-1EB935F6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64148D-ED75-46B4-A206-C007BB39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212A42-AC9B-438A-91A4-711953A9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FA9B7-A190-40C9-AC17-15C60D8B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94112A-C234-4E5E-978E-C0C2931D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607981-75B9-4862-988C-A3370EED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9F054F-A837-459A-9A49-C761A8FD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88E1E7-9C40-4268-B364-4046FF19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11C401-5FF1-49D5-9EE6-D38E47AE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C43857-502D-4C3A-85B9-6D8CFBCA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58A144-9211-49A9-9BE5-997263C9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EC3E598-B8AD-4198-BFD4-26974009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E8B87B-94B2-41B5-A75B-2CF9E299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1A6E48-3A0D-46A7-95BA-584252C7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59636-EA2A-4E91-9FF6-6CE91AE4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F49C84-F5D6-4CE7-9EAF-1721666D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3F6BE3-366E-451A-9BEA-EF3C3B51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8147B8-9F36-4DCD-A2E0-8591D77B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3C6FA6-86B9-4E52-BEAF-E5E85995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6F61AD-C3F7-4D89-9967-5E500669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6FCD36-748E-4F49-8F2E-E9CE8707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5453AE-4309-45FF-B665-840DC69A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5E56B4-C93F-4A94-89D3-C6B60F50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BCA66F-6FE7-4215-B010-F90C725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A336B2-4A47-46BB-84A9-51EAF6EE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FCB63-A6C0-46B7-9B49-9F06F975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49A73A-E737-4ACF-B268-BA982D75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DC8FF1-9BAC-4B11-8EB1-94CC21A5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3C7130-519D-4A16-8EF1-C452A179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8AA56A6-DD7F-4EFF-B5C3-E0D0CA8B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25070F-7522-43CD-A70B-9960BAE1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E1FABF-8892-4E86-95EB-1E126BED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7B4DAE-4E9B-4B23-A2FF-FD640787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40ABA2-DF5E-4B07-A96B-54ADE553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7896E4-2EE9-40DC-8AFE-D918BB6F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706E03B-1091-4FB3-821F-CA748EAD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D896-3FE8-4B0E-9BDC-677412D1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03A2B5-B5B8-4B71-A2E7-5A292021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7BE344-EE6D-4911-9BA5-9E0D99FD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512743-B3BB-403C-AE59-C4FC249C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499DF4-BDDA-4599-B9B8-E7D9E93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43DD09-436D-4F67-990E-459149B3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59DB66-8FDD-4933-95BD-A36C2742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C000B8-8253-49B9-A752-0B349B9B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D21760-A1B8-4D77-A943-D4D750D8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BCD99F-3A62-4474-8230-E99FE20D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6DC2D6-7FC2-4EF1-9769-BE353F9A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6552D-64E9-40AF-8035-CA41A952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645505-942C-4E64-9C7A-3F8EE12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1476080-7D32-48AF-A3E6-E3B064C7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FAC460-124A-4127-A580-E0A9FC47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4C5F0C-397D-4B82-98D0-8834CA28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B491E8-F495-4541-9EA8-B72B1A63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0CC8B8-F9D2-48D7-9739-6A4177C8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BCAE854-9DDF-4A21-AC15-AE4B0B4B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E7D3BB-0C56-47E2-A476-85DD3B68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EBCD99-EB92-4993-8416-8D70C005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44A9D0-09E9-4948-A8A3-1FCA75C9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591F7-5E42-4292-856E-ED586E2E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B5D160-94F4-464A-BF27-1E45721D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4E0FA7-564A-455D-8FB7-F5FA4BE5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9C9EC3-602C-40F0-8CEF-A0979386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51072E-8ABA-4DCC-8950-2E217ED2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4060F8-8FAE-4355-AB4E-6F7C7D0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7265F7-8526-4182-82A5-AC11EA6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93D28C-66A9-4845-9C12-1A48A2BA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D57751-F135-4930-9AF8-7CEE2FE7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F676AB-3878-4A5C-87A2-5A2CC625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5EEF0A-97EE-42C5-9C59-8750F18A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7532-A473-4EA7-8FA0-3B6DB315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51E913-6B27-4991-B526-C0803770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168F88-02EC-4444-9B0A-DCDAD9FB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18E328-ECA2-43EB-AE15-33533994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4F7DA-E34E-4B68-A387-73D9C8EE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ABF81-E369-43A4-B2DF-6C1F69B6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07E-F706-4D39-8C0B-662F255B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0347-2021-4D89-93B0-E6EE23BC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49038-0539-47D6-9692-0F0DCDF9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42D2-A9B6-40E8-9671-A3D373A1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716C1-C93A-4406-842D-55560E53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89C61-A784-4574-AF5D-7129820B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28DDF-1CE3-4651-A58F-969AC297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41FA-1F61-40F5-A2F5-1E1FBB1B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FA1A-2123-48B0-BE9D-816AFC5D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227DC-E0B5-411F-B36A-1408521F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EDD77-46BD-4706-936A-9FABE32B2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7C8-D63E-40B3-91E2-77432E5A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9F51B-1301-486E-BE21-1B96B41D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516E8-5DDD-474E-8BCB-5F5E2741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26054-B2F4-4609-B39A-FA99C5DD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47914-040E-4D56-BC07-29E6E6B6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57FCA-6711-49A7-81BD-3317802C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40CA-86FE-484E-8A27-24A64EB9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826A7-8C28-453F-8965-1482FA59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D88F1-5CE2-4636-B747-F60A5BF3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B2B92-9505-44E7-98BC-48FA9FBD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341B-A0C0-4211-94CB-303E42D96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67C-1A83-4280-A88C-E56F474F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E7E90-D19E-4CB1-8015-7660E2AF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39428-1927-42D0-BC86-2BBFE2F0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48CF3-67F3-44BF-A141-1BF38D8D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C90CF-9D5F-47F9-A004-47CEB4ED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DD4B8-319F-4841-A98C-899C6484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2D9E-7649-407A-83E7-8870BDA2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4D0F8-946D-45B8-95F3-2D3FD508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020C2-9E34-4235-B895-9C59385D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3F17-8CA3-4FD3-85DB-1BD9E520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EAE1-2983-4BF8-9B57-DEEDCA8C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77C-554C-4384-BD72-F689C3D7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35BD4-F89D-4E9D-8624-FC4C81DD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EEF57-9DB8-464E-B51E-65438544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E6E79-3782-4DD2-A8C4-027116683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CBDB6-EF0C-4366-99E8-BEEBEE23B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D344-6100-4D68-88CE-90BD7D00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2A487-E761-4DDA-AC4E-DCBCABF9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F6C30-3AC3-48C9-8221-C7D3FC44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312D7-5BAF-491C-AD95-9785BA56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C8818-715F-4663-84DD-BB162AE7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8C8B-66B2-49C9-9DB4-047E919B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771-4CE4-42CF-B6C0-77C9B535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33229-0C6A-426A-A85A-F2BD99C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93E69-5127-4343-AEDC-65F7ACF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31F0E-13FE-4026-9D09-D48E4C10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AF9D4-744F-49F6-A8CB-E2EF7739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B3DC2-56A8-4CC2-AAB1-E05E671D2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64F98-95C2-4BB9-B6A9-AD948DFB5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37631-9E80-4327-91CE-8224E1B3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107E8-E47D-4899-BFDC-BB06DA05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C6270-5527-4E28-9620-1D39B89D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023D0-D326-45EB-8B5A-B147698D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F70-6472-4C42-B916-4570580C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82075-209C-4980-9F9A-DC80F4D7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CDB1D-0A0F-4AA3-8C4A-C972919C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6B47-86DA-4806-9B75-89E364C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3EF9A-0948-47C1-837C-66965C2C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24E80-4DB5-40C6-95C7-AACB27EE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15583-F878-4F13-BDAC-973F23E3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C1F3A-8E3E-4E4E-B241-55E1B94E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521EF-C334-489B-BF13-703AB541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C9D1E-FAFB-4C16-991C-9DAA1C86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9C26B-DCBC-44F3-BADF-7519D07D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5925-8BFD-4FBC-BB07-E25FF342C0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F5D4-C59B-4131-99E4-B2E6B24776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1C70-9C45-4923-B246-CD7EF660D4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CAC9-9D8E-41B0-9F64-961FDCF6C9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BE11-06DA-4939-8026-53935BC013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80EF-D0A6-4878-968A-D307F80ABC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F539-618A-4227-8CE4-1EA216FA4D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B775-C7EC-4329-88D0-6211CC220A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46C9-4E5C-4618-9A22-2E5D595A46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810F-DDFB-42AB-A123-43BDAD0E7E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233A-5253-47A2-8FA4-2487FBBC46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68B-9312-4399-B1B1-317A08E1F7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7166-EA77-461C-BEBC-AAB1425206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A77A-3D94-465B-B998-A947BB1E26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2A1B-D20F-4834-9BE9-875AC0328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C6F0-5366-4165-BD89-48124F1AC2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2341-92CB-4489-AF6D-2BA0938597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A59F-E53C-457F-BC34-D9674FECAB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548E-930A-4033-94F7-77BA088785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C27A-9FED-47F9-B67C-3B30EE00D8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D11-6D3F-4309-B136-93722E9D02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E2B3-F544-4B8C-AFA9-0DBCE15DF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A4D9-5D11-4214-9D13-A6388A911E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70EF-2C04-4912-A35E-D6B6F798B3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62A2-E3FD-4AF4-8E7A-07103FC09A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1E41-EDF6-4B48-ADEE-9FA1EFAD2E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9243-C2A8-4F09-B99C-33803CAB0F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2F9A-88B0-4C9B-AE2F-46B4A10068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3E39-01CC-4A64-B244-0BD445EDB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1EB05-D94B-4548-99C6-72BA365147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4F44-A7C4-4A65-91AA-BADC55B817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021A-F1E2-4172-AE6D-97A83813E9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50B5-1DD0-4EE3-8168-EE673BBDFB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A4A8-75B6-4D53-9425-A38DE82E3F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9D09-E76A-4834-839B-DFD1A11084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4D9D-317D-428D-B541-ED61F6B309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94E4-7AE8-46D3-8283-CD667FB0AD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CDA4-7FE9-45C6-AA06-15BEE8F2EE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BE8E-EE15-4F4D-B557-3BDB1587B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AD04-FFA9-4D03-A2B6-8176BDF51A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023F-FF1A-4D0D-A5C0-671BE649F5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B34D-7B36-4277-962C-7F3ED6283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9915-DF22-408F-BE9A-6FF12D2B53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0F80-2356-4025-9135-2C39696A09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5D1E-54F6-42B5-B78A-DE575D5D16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B2C7-D4D7-49EF-B1A0-4D17D79358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65E0-0060-458A-8668-86D717962D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3E94-C72C-481A-9986-27AD187730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DC3F-8FC7-4318-86C1-FB659E865F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1E3B-4EBC-4AFD-BC3B-257483B27F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78" descr=""/>
          <p:cNvPicPr/>
          <p:nvPr/>
        </p:nvPicPr>
        <p:blipFill>
          <a:blip r:embed="rId1"/>
          <a:stretch/>
        </p:blipFill>
        <p:spPr>
          <a:xfrm>
            <a:off x="1023840" y="2995560"/>
            <a:ext cx="70963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69633" descr=""/>
          <p:cNvPicPr/>
          <p:nvPr/>
        </p:nvPicPr>
        <p:blipFill>
          <a:blip r:embed="rId1"/>
          <a:stretch/>
        </p:blipFill>
        <p:spPr>
          <a:xfrm>
            <a:off x="1171440" y="1919160"/>
            <a:ext cx="6801120" cy="30196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2"/>
          <a:stretch/>
        </p:blipFill>
        <p:spPr>
          <a:xfrm>
            <a:off x="1547640" y="3054240"/>
            <a:ext cx="6840720" cy="95112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1" descr=""/>
          <p:cNvPicPr/>
          <p:nvPr/>
        </p:nvPicPr>
        <p:blipFill>
          <a:blip r:embed="rId3"/>
          <a:stretch/>
        </p:blipFill>
        <p:spPr>
          <a:xfrm>
            <a:off x="1619280" y="4091040"/>
            <a:ext cx="68403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68609" descr=""/>
          <p:cNvPicPr/>
          <p:nvPr/>
        </p:nvPicPr>
        <p:blipFill>
          <a:blip r:embed="rId1"/>
          <a:stretch/>
        </p:blipFill>
        <p:spPr>
          <a:xfrm>
            <a:off x="1090440" y="1238400"/>
            <a:ext cx="6963120" cy="438120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" descr=""/>
          <p:cNvPicPr/>
          <p:nvPr/>
        </p:nvPicPr>
        <p:blipFill>
          <a:blip r:embed="rId2"/>
          <a:stretch/>
        </p:blipFill>
        <p:spPr>
          <a:xfrm>
            <a:off x="1908000" y="2838600"/>
            <a:ext cx="6551640" cy="86328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" descr=""/>
          <p:cNvPicPr/>
          <p:nvPr/>
        </p:nvPicPr>
        <p:blipFill>
          <a:blip r:embed="rId3"/>
          <a:stretch/>
        </p:blipFill>
        <p:spPr>
          <a:xfrm>
            <a:off x="1908000" y="3789360"/>
            <a:ext cx="6551640" cy="86364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" descr=""/>
          <p:cNvPicPr/>
          <p:nvPr/>
        </p:nvPicPr>
        <p:blipFill>
          <a:blip r:embed="rId4"/>
          <a:stretch/>
        </p:blipFill>
        <p:spPr>
          <a:xfrm>
            <a:off x="1979640" y="4782960"/>
            <a:ext cx="6551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67585" descr=""/>
          <p:cNvPicPr/>
          <p:nvPr/>
        </p:nvPicPr>
        <p:blipFill>
          <a:blip r:embed="rId1"/>
          <a:stretch/>
        </p:blipFill>
        <p:spPr>
          <a:xfrm>
            <a:off x="833400" y="847800"/>
            <a:ext cx="7477200" cy="553392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2"/>
          <a:stretch/>
        </p:blipFill>
        <p:spPr>
          <a:xfrm>
            <a:off x="1187280" y="1384200"/>
            <a:ext cx="6337440" cy="476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6337440" cy="47592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7559640" cy="476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" descr=""/>
          <p:cNvPicPr/>
          <p:nvPr/>
        </p:nvPicPr>
        <p:blipFill>
          <a:blip r:embed="rId5"/>
          <a:stretch/>
        </p:blipFill>
        <p:spPr>
          <a:xfrm>
            <a:off x="971640" y="5373720"/>
            <a:ext cx="7559640" cy="476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" descr=""/>
          <p:cNvPicPr/>
          <p:nvPr/>
        </p:nvPicPr>
        <p:blipFill>
          <a:blip r:embed="rId6"/>
          <a:stretch/>
        </p:blipFill>
        <p:spPr>
          <a:xfrm>
            <a:off x="971640" y="5877000"/>
            <a:ext cx="75596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66561" descr=""/>
          <p:cNvPicPr/>
          <p:nvPr/>
        </p:nvPicPr>
        <p:blipFill>
          <a:blip r:embed="rId1"/>
          <a:stretch/>
        </p:blipFill>
        <p:spPr>
          <a:xfrm>
            <a:off x="843120" y="2409840"/>
            <a:ext cx="7457760" cy="203832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1" descr=""/>
          <p:cNvPicPr/>
          <p:nvPr/>
        </p:nvPicPr>
        <p:blipFill>
          <a:blip r:embed="rId2"/>
          <a:stretch/>
        </p:blipFill>
        <p:spPr>
          <a:xfrm>
            <a:off x="1332000" y="3341520"/>
            <a:ext cx="7200720" cy="47628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" descr=""/>
          <p:cNvPicPr/>
          <p:nvPr/>
        </p:nvPicPr>
        <p:blipFill>
          <a:blip r:embed="rId3"/>
          <a:stretch/>
        </p:blipFill>
        <p:spPr>
          <a:xfrm>
            <a:off x="1116000" y="3933720"/>
            <a:ext cx="7201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65537" descr=""/>
          <p:cNvPicPr/>
          <p:nvPr/>
        </p:nvPicPr>
        <p:blipFill>
          <a:blip r:embed="rId1"/>
          <a:stretch/>
        </p:blipFill>
        <p:spPr>
          <a:xfrm>
            <a:off x="566640" y="1700280"/>
            <a:ext cx="8010720" cy="345744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1" descr=""/>
          <p:cNvPicPr/>
          <p:nvPr/>
        </p:nvPicPr>
        <p:blipFill>
          <a:blip r:embed="rId2"/>
          <a:stretch/>
        </p:blipFill>
        <p:spPr>
          <a:xfrm>
            <a:off x="1476360" y="2320920"/>
            <a:ext cx="5759640" cy="47628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1" descr=""/>
          <p:cNvPicPr/>
          <p:nvPr/>
        </p:nvPicPr>
        <p:blipFill>
          <a:blip r:embed="rId3"/>
          <a:stretch/>
        </p:blipFill>
        <p:spPr>
          <a:xfrm>
            <a:off x="1258920" y="2924280"/>
            <a:ext cx="5759280" cy="47628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1" descr=""/>
          <p:cNvPicPr/>
          <p:nvPr/>
        </p:nvPicPr>
        <p:blipFill>
          <a:blip r:embed="rId4"/>
          <a:stretch/>
        </p:blipFill>
        <p:spPr>
          <a:xfrm>
            <a:off x="1332000" y="3429000"/>
            <a:ext cx="5759280" cy="47628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1" descr=""/>
          <p:cNvPicPr/>
          <p:nvPr/>
        </p:nvPicPr>
        <p:blipFill>
          <a:blip r:embed="rId5"/>
          <a:stretch/>
        </p:blipFill>
        <p:spPr>
          <a:xfrm>
            <a:off x="1332000" y="3976560"/>
            <a:ext cx="5759280" cy="47628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1" descr=""/>
          <p:cNvPicPr/>
          <p:nvPr/>
        </p:nvPicPr>
        <p:blipFill>
          <a:blip r:embed="rId6"/>
          <a:stretch/>
        </p:blipFill>
        <p:spPr>
          <a:xfrm>
            <a:off x="1332000" y="4595760"/>
            <a:ext cx="5759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9" name="图片 64513" descr=""/>
          <p:cNvPicPr/>
          <p:nvPr/>
        </p:nvPicPr>
        <p:blipFill>
          <a:blip r:embed="rId1"/>
          <a:stretch/>
        </p:blipFill>
        <p:spPr>
          <a:xfrm>
            <a:off x="600120" y="2023920"/>
            <a:ext cx="7943760" cy="281016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1" descr=""/>
          <p:cNvPicPr/>
          <p:nvPr/>
        </p:nvPicPr>
        <p:blipFill>
          <a:blip r:embed="rId2"/>
          <a:stretch/>
        </p:blipFill>
        <p:spPr>
          <a:xfrm>
            <a:off x="900000" y="2608200"/>
            <a:ext cx="6120000" cy="47628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1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6120000" cy="47628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" descr=""/>
          <p:cNvPicPr/>
          <p:nvPr/>
        </p:nvPicPr>
        <p:blipFill>
          <a:blip r:embed="rId4"/>
          <a:stretch/>
        </p:blipFill>
        <p:spPr>
          <a:xfrm>
            <a:off x="826920" y="3730680"/>
            <a:ext cx="6120000" cy="47628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" descr=""/>
          <p:cNvPicPr/>
          <p:nvPr/>
        </p:nvPicPr>
        <p:blipFill>
          <a:blip r:embed="rId5"/>
          <a:stretch/>
        </p:blipFill>
        <p:spPr>
          <a:xfrm>
            <a:off x="755640" y="4351320"/>
            <a:ext cx="6120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63489" descr=""/>
          <p:cNvPicPr/>
          <p:nvPr/>
        </p:nvPicPr>
        <p:blipFill>
          <a:blip r:embed="rId1"/>
          <a:stretch/>
        </p:blipFill>
        <p:spPr>
          <a:xfrm>
            <a:off x="252360" y="2019240"/>
            <a:ext cx="8639280" cy="281952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1" descr=""/>
          <p:cNvPicPr/>
          <p:nvPr/>
        </p:nvPicPr>
        <p:blipFill>
          <a:blip r:embed="rId2"/>
          <a:stretch/>
        </p:blipFill>
        <p:spPr>
          <a:xfrm>
            <a:off x="611280" y="3111480"/>
            <a:ext cx="7416720" cy="47628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1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7416720" cy="47628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1" descr=""/>
          <p:cNvPicPr/>
          <p:nvPr/>
        </p:nvPicPr>
        <p:blipFill>
          <a:blip r:embed="rId4"/>
          <a:stretch/>
        </p:blipFill>
        <p:spPr>
          <a:xfrm>
            <a:off x="684360" y="4235400"/>
            <a:ext cx="741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8" name="图片 62465" descr=""/>
          <p:cNvPicPr/>
          <p:nvPr/>
        </p:nvPicPr>
        <p:blipFill>
          <a:blip r:embed="rId1"/>
          <a:stretch/>
        </p:blipFill>
        <p:spPr>
          <a:xfrm>
            <a:off x="247680" y="1352520"/>
            <a:ext cx="8648640" cy="41529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1" descr=""/>
          <p:cNvPicPr/>
          <p:nvPr/>
        </p:nvPicPr>
        <p:blipFill>
          <a:blip r:embed="rId2"/>
          <a:stretch/>
        </p:blipFill>
        <p:spPr>
          <a:xfrm>
            <a:off x="1116000" y="4379760"/>
            <a:ext cx="5616720" cy="47628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1" descr=""/>
          <p:cNvPicPr/>
          <p:nvPr/>
        </p:nvPicPr>
        <p:blipFill>
          <a:blip r:embed="rId3"/>
          <a:stretch/>
        </p:blipFill>
        <p:spPr>
          <a:xfrm>
            <a:off x="1042920" y="4941720"/>
            <a:ext cx="56167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1" name="图片 61441" descr=""/>
          <p:cNvPicPr/>
          <p:nvPr/>
        </p:nvPicPr>
        <p:blipFill>
          <a:blip r:embed="rId1"/>
          <a:stretch/>
        </p:blipFill>
        <p:spPr>
          <a:xfrm>
            <a:off x="1228680" y="1947960"/>
            <a:ext cx="6686640" cy="296208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1" descr=""/>
          <p:cNvPicPr/>
          <p:nvPr/>
        </p:nvPicPr>
        <p:blipFill>
          <a:blip r:embed="rId2"/>
          <a:stretch/>
        </p:blipFill>
        <p:spPr>
          <a:xfrm>
            <a:off x="1763640" y="2665440"/>
            <a:ext cx="6985080" cy="47628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" descr=""/>
          <p:cNvPicPr/>
          <p:nvPr/>
        </p:nvPicPr>
        <p:blipFill>
          <a:blip r:embed="rId3"/>
          <a:stretch/>
        </p:blipFill>
        <p:spPr>
          <a:xfrm>
            <a:off x="1187280" y="3227400"/>
            <a:ext cx="6985080" cy="47628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" descr=""/>
          <p:cNvPicPr/>
          <p:nvPr/>
        </p:nvPicPr>
        <p:blipFill>
          <a:blip r:embed="rId4"/>
          <a:stretch/>
        </p:blipFill>
        <p:spPr>
          <a:xfrm>
            <a:off x="1187280" y="3860640"/>
            <a:ext cx="6985080" cy="476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" descr=""/>
          <p:cNvPicPr/>
          <p:nvPr/>
        </p:nvPicPr>
        <p:blipFill>
          <a:blip r:embed="rId5"/>
          <a:stretch/>
        </p:blipFill>
        <p:spPr>
          <a:xfrm>
            <a:off x="1116000" y="4379760"/>
            <a:ext cx="6985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6" name="图片 70657" descr=""/>
          <p:cNvPicPr/>
          <p:nvPr/>
        </p:nvPicPr>
        <p:blipFill>
          <a:blip r:embed="rId1"/>
          <a:stretch/>
        </p:blipFill>
        <p:spPr>
          <a:xfrm>
            <a:off x="309600" y="87480"/>
            <a:ext cx="8078760" cy="669420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" descr=""/>
          <p:cNvPicPr/>
          <p:nvPr/>
        </p:nvPicPr>
        <p:blipFill>
          <a:blip r:embed="rId2"/>
          <a:stretch/>
        </p:blipFill>
        <p:spPr>
          <a:xfrm>
            <a:off x="971640" y="1527120"/>
            <a:ext cx="7632720" cy="749520"/>
          </a:xfrm>
          <a:prstGeom prst="rect">
            <a:avLst/>
          </a:prstGeom>
          <a:ln w="0">
            <a:noFill/>
          </a:ln>
        </p:spPr>
      </p:pic>
      <p:pic>
        <p:nvPicPr>
          <p:cNvPr id="1508" name="Picture 1" descr=""/>
          <p:cNvPicPr/>
          <p:nvPr/>
        </p:nvPicPr>
        <p:blipFill>
          <a:blip r:embed="rId3"/>
          <a:stretch/>
        </p:blipFill>
        <p:spPr>
          <a:xfrm>
            <a:off x="1042920" y="2378160"/>
            <a:ext cx="2737080" cy="476280"/>
          </a:xfrm>
          <a:prstGeom prst="rect">
            <a:avLst/>
          </a:prstGeom>
          <a:ln w="0">
            <a:noFill/>
          </a:ln>
        </p:spPr>
      </p:pic>
      <p:pic>
        <p:nvPicPr>
          <p:cNvPr id="1509" name="Picture 1" descr=""/>
          <p:cNvPicPr/>
          <p:nvPr/>
        </p:nvPicPr>
        <p:blipFill>
          <a:blip r:embed="rId4"/>
          <a:stretch/>
        </p:blipFill>
        <p:spPr>
          <a:xfrm>
            <a:off x="611280" y="3025800"/>
            <a:ext cx="7273800" cy="907920"/>
          </a:xfrm>
          <a:prstGeom prst="rect">
            <a:avLst/>
          </a:prstGeom>
          <a:ln w="0">
            <a:noFill/>
          </a:ln>
        </p:spPr>
      </p:pic>
      <p:pic>
        <p:nvPicPr>
          <p:cNvPr id="1510" name="Picture 1" descr=""/>
          <p:cNvPicPr/>
          <p:nvPr/>
        </p:nvPicPr>
        <p:blipFill>
          <a:blip r:embed="rId5"/>
          <a:stretch/>
        </p:blipFill>
        <p:spPr>
          <a:xfrm>
            <a:off x="468360" y="4076640"/>
            <a:ext cx="7273800" cy="90828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" descr=""/>
          <p:cNvPicPr/>
          <p:nvPr/>
        </p:nvPicPr>
        <p:blipFill>
          <a:blip r:embed="rId6"/>
          <a:stretch/>
        </p:blipFill>
        <p:spPr>
          <a:xfrm>
            <a:off x="755640" y="5013360"/>
            <a:ext cx="7273800" cy="90792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7"/>
          <a:stretch/>
        </p:blipFill>
        <p:spPr>
          <a:xfrm>
            <a:off x="755640" y="5950080"/>
            <a:ext cx="72738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4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60428" descr=""/>
          <p:cNvPicPr/>
          <p:nvPr/>
        </p:nvPicPr>
        <p:blipFill>
          <a:blip r:embed="rId1"/>
          <a:stretch/>
        </p:blipFill>
        <p:spPr>
          <a:xfrm>
            <a:off x="233280" y="819000"/>
            <a:ext cx="8677440" cy="5562720"/>
          </a:xfrm>
          <a:prstGeom prst="rect">
            <a:avLst/>
          </a:prstGeom>
          <a:ln w="0">
            <a:noFill/>
          </a:ln>
        </p:spPr>
      </p:pic>
      <p:pic>
        <p:nvPicPr>
          <p:cNvPr id="1434" name="Picture 1" descr=""/>
          <p:cNvPicPr/>
          <p:nvPr/>
        </p:nvPicPr>
        <p:blipFill>
          <a:blip r:embed="rId2"/>
          <a:stretch/>
        </p:blipFill>
        <p:spPr>
          <a:xfrm>
            <a:off x="8028000" y="141300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" descr=""/>
          <p:cNvPicPr/>
          <p:nvPr/>
        </p:nvPicPr>
        <p:blipFill>
          <a:blip r:embed="rId3"/>
          <a:stretch/>
        </p:blipFill>
        <p:spPr>
          <a:xfrm>
            <a:off x="8028000" y="256536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" descr=""/>
          <p:cNvPicPr/>
          <p:nvPr/>
        </p:nvPicPr>
        <p:blipFill>
          <a:blip r:embed="rId4"/>
          <a:stretch/>
        </p:blipFill>
        <p:spPr>
          <a:xfrm>
            <a:off x="8028000" y="432108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3" name="图片 71681" descr=""/>
          <p:cNvPicPr/>
          <p:nvPr/>
        </p:nvPicPr>
        <p:blipFill>
          <a:blip r:embed="rId1"/>
          <a:stretch/>
        </p:blipFill>
        <p:spPr>
          <a:xfrm>
            <a:off x="571680" y="762120"/>
            <a:ext cx="8001000" cy="561960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1" descr=""/>
          <p:cNvPicPr/>
          <p:nvPr/>
        </p:nvPicPr>
        <p:blipFill>
          <a:blip r:embed="rId2"/>
          <a:stretch/>
        </p:blipFill>
        <p:spPr>
          <a:xfrm>
            <a:off x="958680" y="2665440"/>
            <a:ext cx="6566040" cy="105084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1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6566040" cy="105120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1" descr=""/>
          <p:cNvPicPr/>
          <p:nvPr/>
        </p:nvPicPr>
        <p:blipFill>
          <a:blip r:embed="rId4"/>
          <a:stretch/>
        </p:blipFill>
        <p:spPr>
          <a:xfrm>
            <a:off x="826920" y="5013360"/>
            <a:ext cx="6566040" cy="79200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1" descr=""/>
          <p:cNvPicPr/>
          <p:nvPr/>
        </p:nvPicPr>
        <p:blipFill>
          <a:blip r:embed="rId5"/>
          <a:stretch/>
        </p:blipFill>
        <p:spPr>
          <a:xfrm>
            <a:off x="1042920" y="5950080"/>
            <a:ext cx="4824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59410" descr=""/>
          <p:cNvPicPr/>
          <p:nvPr/>
        </p:nvPicPr>
        <p:blipFill>
          <a:blip r:embed="rId1"/>
          <a:stretch/>
        </p:blipFill>
        <p:spPr>
          <a:xfrm>
            <a:off x="281160" y="2276640"/>
            <a:ext cx="8581680" cy="230472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" descr=""/>
          <p:cNvPicPr/>
          <p:nvPr/>
        </p:nvPicPr>
        <p:blipFill>
          <a:blip r:embed="rId2"/>
          <a:stretch/>
        </p:blipFill>
        <p:spPr>
          <a:xfrm>
            <a:off x="8028000" y="2924280"/>
            <a:ext cx="576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58373" descr=""/>
          <p:cNvPicPr/>
          <p:nvPr/>
        </p:nvPicPr>
        <p:blipFill>
          <a:blip r:embed="rId1"/>
          <a:stretch/>
        </p:blipFill>
        <p:spPr>
          <a:xfrm>
            <a:off x="243000" y="1309680"/>
            <a:ext cx="8658000" cy="423864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1" descr=""/>
          <p:cNvPicPr/>
          <p:nvPr/>
        </p:nvPicPr>
        <p:blipFill>
          <a:blip r:embed="rId2"/>
          <a:stretch/>
        </p:blipFill>
        <p:spPr>
          <a:xfrm>
            <a:off x="8028000" y="1916280"/>
            <a:ext cx="576360" cy="47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57352" descr=""/>
          <p:cNvPicPr/>
          <p:nvPr/>
        </p:nvPicPr>
        <p:blipFill>
          <a:blip r:embed="rId1"/>
          <a:stretch/>
        </p:blipFill>
        <p:spPr>
          <a:xfrm>
            <a:off x="237960" y="1243080"/>
            <a:ext cx="8668080" cy="43718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1" descr=""/>
          <p:cNvPicPr/>
          <p:nvPr/>
        </p:nvPicPr>
        <p:blipFill>
          <a:blip r:embed="rId2"/>
          <a:stretch/>
        </p:blipFill>
        <p:spPr>
          <a:xfrm>
            <a:off x="7956720" y="184464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443" name="Picture 1" descr=""/>
          <p:cNvPicPr/>
          <p:nvPr/>
        </p:nvPicPr>
        <p:blipFill>
          <a:blip r:embed="rId3"/>
          <a:stretch/>
        </p:blipFill>
        <p:spPr>
          <a:xfrm>
            <a:off x="7956720" y="400536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56324" descr=""/>
          <p:cNvPicPr/>
          <p:nvPr/>
        </p:nvPicPr>
        <p:blipFill>
          <a:blip r:embed="rId1"/>
          <a:stretch/>
        </p:blipFill>
        <p:spPr>
          <a:xfrm>
            <a:off x="219240" y="909720"/>
            <a:ext cx="8705520" cy="503856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1" descr=""/>
          <p:cNvPicPr/>
          <p:nvPr/>
        </p:nvPicPr>
        <p:blipFill>
          <a:blip r:embed="rId2"/>
          <a:stretch/>
        </p:blipFill>
        <p:spPr>
          <a:xfrm>
            <a:off x="8028000" y="1512720"/>
            <a:ext cx="576360" cy="47628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1" descr=""/>
          <p:cNvPicPr/>
          <p:nvPr/>
        </p:nvPicPr>
        <p:blipFill>
          <a:blip r:embed="rId3"/>
          <a:stretch/>
        </p:blipFill>
        <p:spPr>
          <a:xfrm>
            <a:off x="3059280" y="4033800"/>
            <a:ext cx="576000" cy="47628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" descr=""/>
          <p:cNvPicPr/>
          <p:nvPr/>
        </p:nvPicPr>
        <p:blipFill>
          <a:blip r:embed="rId4"/>
          <a:stretch/>
        </p:blipFill>
        <p:spPr>
          <a:xfrm>
            <a:off x="6012000" y="5402160"/>
            <a:ext cx="57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55300" descr=""/>
          <p:cNvPicPr/>
          <p:nvPr/>
        </p:nvPicPr>
        <p:blipFill>
          <a:blip r:embed="rId1"/>
          <a:stretch/>
        </p:blipFill>
        <p:spPr>
          <a:xfrm>
            <a:off x="290520" y="1055520"/>
            <a:ext cx="8591400" cy="160992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55301" descr=""/>
          <p:cNvPicPr/>
          <p:nvPr/>
        </p:nvPicPr>
        <p:blipFill>
          <a:blip r:embed="rId2"/>
          <a:stretch/>
        </p:blipFill>
        <p:spPr>
          <a:xfrm>
            <a:off x="266760" y="2787480"/>
            <a:ext cx="8610480" cy="316260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1" descr=""/>
          <p:cNvPicPr/>
          <p:nvPr/>
        </p:nvPicPr>
        <p:blipFill>
          <a:blip r:embed="rId3"/>
          <a:stretch/>
        </p:blipFill>
        <p:spPr>
          <a:xfrm>
            <a:off x="4427640" y="2722680"/>
            <a:ext cx="1584360" cy="85068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" descr=""/>
          <p:cNvPicPr/>
          <p:nvPr/>
        </p:nvPicPr>
        <p:blipFill>
          <a:blip r:embed="rId4"/>
          <a:stretch/>
        </p:blipFill>
        <p:spPr>
          <a:xfrm>
            <a:off x="5435640" y="3716280"/>
            <a:ext cx="576360" cy="40500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" descr=""/>
          <p:cNvPicPr/>
          <p:nvPr/>
        </p:nvPicPr>
        <p:blipFill>
          <a:blip r:embed="rId5"/>
          <a:stretch/>
        </p:blipFill>
        <p:spPr>
          <a:xfrm>
            <a:off x="5364000" y="4854600"/>
            <a:ext cx="1224000" cy="4046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" descr=""/>
          <p:cNvPicPr/>
          <p:nvPr/>
        </p:nvPicPr>
        <p:blipFill>
          <a:blip r:embed="rId6"/>
          <a:stretch/>
        </p:blipFill>
        <p:spPr>
          <a:xfrm>
            <a:off x="6891480" y="5430960"/>
            <a:ext cx="576000" cy="4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54276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067520" cy="2791080"/>
          </a:xfrm>
          <a:prstGeom prst="rect">
            <a:avLst/>
          </a:prstGeom>
          <a:ln w="0">
            <a:noFill/>
          </a:ln>
        </p:spPr>
      </p:pic>
      <p:pic>
        <p:nvPicPr>
          <p:cNvPr id="1455" name="图片 54277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7277040" cy="223848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" descr=""/>
          <p:cNvPicPr/>
          <p:nvPr/>
        </p:nvPicPr>
        <p:blipFill>
          <a:blip r:embed="rId3"/>
          <a:stretch/>
        </p:blipFill>
        <p:spPr>
          <a:xfrm>
            <a:off x="1619280" y="2565360"/>
            <a:ext cx="6337440" cy="47628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" descr=""/>
          <p:cNvPicPr/>
          <p:nvPr/>
        </p:nvPicPr>
        <p:blipFill>
          <a:blip r:embed="rId4"/>
          <a:stretch/>
        </p:blipFill>
        <p:spPr>
          <a:xfrm>
            <a:off x="1619280" y="3141720"/>
            <a:ext cx="6337440" cy="4762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" descr=""/>
          <p:cNvPicPr/>
          <p:nvPr/>
        </p:nvPicPr>
        <p:blipFill>
          <a:blip r:embed="rId5"/>
          <a:stretch/>
        </p:blipFill>
        <p:spPr>
          <a:xfrm>
            <a:off x="1619280" y="465300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1" descr=""/>
          <p:cNvPicPr/>
          <p:nvPr/>
        </p:nvPicPr>
        <p:blipFill>
          <a:blip r:embed="rId6"/>
          <a:stretch/>
        </p:blipFill>
        <p:spPr>
          <a:xfrm>
            <a:off x="1619280" y="5229360"/>
            <a:ext cx="6840360" cy="47628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1" descr=""/>
          <p:cNvPicPr/>
          <p:nvPr/>
        </p:nvPicPr>
        <p:blipFill>
          <a:blip r:embed="rId7"/>
          <a:stretch/>
        </p:blipFill>
        <p:spPr>
          <a:xfrm>
            <a:off x="1692360" y="5805360"/>
            <a:ext cx="6840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52231" descr=""/>
          <p:cNvPicPr/>
          <p:nvPr/>
        </p:nvPicPr>
        <p:blipFill>
          <a:blip r:embed="rId1"/>
          <a:stretch/>
        </p:blipFill>
        <p:spPr>
          <a:xfrm>
            <a:off x="826920" y="809640"/>
            <a:ext cx="6810480" cy="557208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" descr=""/>
          <p:cNvPicPr/>
          <p:nvPr/>
        </p:nvPicPr>
        <p:blipFill>
          <a:blip r:embed="rId2"/>
          <a:stretch/>
        </p:blipFill>
        <p:spPr>
          <a:xfrm>
            <a:off x="1258920" y="1413000"/>
            <a:ext cx="5977080" cy="47628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1" descr=""/>
          <p:cNvPicPr/>
          <p:nvPr/>
        </p:nvPicPr>
        <p:blipFill>
          <a:blip r:embed="rId3"/>
          <a:stretch/>
        </p:blipFill>
        <p:spPr>
          <a:xfrm>
            <a:off x="1258920" y="2017800"/>
            <a:ext cx="5977080" cy="47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1" descr=""/>
          <p:cNvPicPr/>
          <p:nvPr/>
        </p:nvPicPr>
        <p:blipFill>
          <a:blip r:embed="rId4"/>
          <a:stretch/>
        </p:blipFill>
        <p:spPr>
          <a:xfrm>
            <a:off x="1187280" y="4695840"/>
            <a:ext cx="6913800" cy="47628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" descr=""/>
          <p:cNvPicPr/>
          <p:nvPr/>
        </p:nvPicPr>
        <p:blipFill>
          <a:blip r:embed="rId5"/>
          <a:stretch/>
        </p:blipFill>
        <p:spPr>
          <a:xfrm>
            <a:off x="1187280" y="5300640"/>
            <a:ext cx="6913800" cy="47628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" descr=""/>
          <p:cNvPicPr/>
          <p:nvPr/>
        </p:nvPicPr>
        <p:blipFill>
          <a:blip r:embed="rId6"/>
          <a:stretch/>
        </p:blipFill>
        <p:spPr>
          <a:xfrm>
            <a:off x="1187280" y="5877000"/>
            <a:ext cx="69138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10:19:0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